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dt" idx="9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 type="ftr" idx="9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 type="sldNum" idx="9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4126-715E-4153-8136-48270C384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I could give 12 friends one cookie each; I could give 4 friends 3 cookies each…  This is actually a Marilyn Burns ques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CD7F-0CAF-46F3-AEB8-21F7489D2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:  Click on the slide when you want to go on to the next problem.What about the remainders or leftovers?  You could print this slide and slide 4 out and assign to small groups to model for whole class during a walkabo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178A-2281-4E33-9030-54C89D07E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he remainders or leftovers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11B7-D30E-4C35-A52B-CD7559ADB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counters to model then make a pictorial diagram in your jour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829C-DD1A-43D6-829D-CF62035BE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last one, make sure kids are using Becky and her friends as 7 people.   Use counters to model each one then draw a pictorial model in your journal of your real counter mo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E3C7-F696-4A55-A6C9-B50DE8326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, the remainder is able to be shared as well.  You could discuss this, but fractional parts come later in the time l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AFB6-3618-4D24-A1A4-3201C06CF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D7CE-AA7A-4986-B710-5BDFB617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9DF-58A1-4CEC-A2A2-312DD121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57268-44FF-47DC-851E-703EDFDB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36A42-C524-4891-8CDE-E13F2D19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751E6-EE44-4A8C-B1B5-39B9AA9E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C3412-EE33-4C46-9C24-21FA26F3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E42C6-7132-4312-85EA-BE26FF18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1A53D-9CC2-4A23-A8AD-0F874931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7B756-0279-4315-A7F8-A38862F6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6B3D4-580B-4A10-8D88-44226FC4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2B79A-A31B-435C-A403-C2FCE357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6AFFC-8CEB-456E-ABDC-3D7F7B48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C0CF-9572-4EEC-8D54-05C98F5D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3BB57-CD8A-4049-AFE5-C63D3D9D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7614C-1024-4236-B296-F79D52E5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EDE9F-2E9E-4644-B125-2C843FFA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756AE-EEEE-47EB-A116-48BA62D1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B1657-FB8A-4AD4-BCA3-37947053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D4141-2C3B-45FE-8549-43885DD3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A02D2-E34F-4C3B-925C-4B29DFEF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06865-4205-48E9-BE3C-68AD9503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E8A50-EF79-4045-80CB-32765C7F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8A5F8-45A4-4963-89F7-232485DA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1A9-8172-4715-B1D2-35DF86E2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5E988-5520-4848-94E1-F7D95A5A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7944E-9798-4813-9A14-5B1DD635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9745C-19C8-4FF6-B9AA-C127DFD7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5698B-2D0C-4BAE-A2BF-DA5B8CEA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8AFC8-1C09-4AAC-84CF-3324F499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EBD58-243F-450E-B439-916040CB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A9311-DA85-4520-9A12-84FFA103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43796-9C92-4DE2-9D00-59572E36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0A85C-41AB-40AD-8A11-D6B0BA52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B034C-C684-4DB3-8853-44781FAE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86BE-7255-4F5B-A836-25F69574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7AD67-487E-4FC0-8534-10925701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9B06D-6969-4A26-BA70-D2F56C21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3048D-53BB-4BE4-9740-7DD1B2B8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69375-98E5-49BF-8EA3-B07DCC60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01310-F77F-40BF-BB45-4DAA7A3D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8E1BE-A6F3-46D7-905A-F46709F9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D2972-B295-4DDF-9C20-8803436B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E03DC-439A-45BF-B455-6C27058E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600C4-1211-4CF9-94B6-8F1E01E4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50BB8-8F8D-4DC0-BB9B-294F4304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E54A-A749-47BD-9F1B-9AC530E2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1C670-0F60-4E12-ABDB-24DA6254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4B674-CD90-4075-8F3B-82D4D76C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21740-132A-4170-923B-1EC9FAB4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CF1D2-CE17-4B49-ADF0-9DA0CBBB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56871-6801-48AF-9685-253FCE9F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23BC8-F1CA-4334-8873-6C1C9F34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EECEE6-89D1-4AD4-A8C8-5E0C225D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16CD9-84A3-4D7D-B053-EC1887F5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EA62C-F280-4250-B877-743220DB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911FC5-1CAE-42AB-96E9-190686A1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D6EB-D5C2-4B15-A0F1-BC359DAB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8D36F-ABFE-4BC8-8F65-FCFC3491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C5F26C-140A-431C-B4EE-F839FE19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74AC2-A279-437F-A249-EABF33D2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FB7BD-D261-4EAC-AD51-B45E3D71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908D0-FC0D-4EDA-B217-3AA27FE2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5415F-6EAA-44FC-A54C-6D1F64E9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1854F-5315-4FAE-80B2-3E5DDE7C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672EE7-F5DB-4258-AC54-633B9D71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1D0108-1291-4CA1-A360-B784A8FD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06E23-67E9-49BC-949E-69C5ABF4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3C41-6853-46F7-8A8D-F58FD71F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1871FD-BC79-4620-BC4C-CCA90AF1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812A93-F9E6-4967-8004-871C321F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2EF079-1EFC-4530-AEED-EF2773AB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6C736B-E70E-49A1-A20C-D3855251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4DC17B-A097-4E17-A08B-CD475191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E95E05-0BC9-4617-AC28-2F40C5C6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838BED-64C9-49A1-8DEC-FC919166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F12A53-08A1-4C8F-9CB9-20DA66D8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F58A97-26DD-4423-AF53-2332B41E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CB2C69-7220-4ABE-A5B6-0BBBC2B7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DD56-5814-412B-8EFE-577ED573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9849C-77C5-4B2F-BD97-E1338A5C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36322B-0D54-43D7-8843-7BC14A2D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CBFBEB-EF97-4B83-AFA5-6E232AA7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E1987-6A65-42D4-BBCC-C70D5D8B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DDE8BD-E728-40A4-B77F-75ED1FD7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CF8958-52A3-41CB-A33A-886F97D7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296F58-2860-4CE0-B396-22EBB47C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92C8C4-6DC3-4AFF-B6AF-5950D563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D2A132-8FDB-440F-A677-57110ECD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3AD82B-22F2-456E-BC9C-C239BA5D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4E48-A393-4F7E-900E-E9126736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E5020E-A801-45A9-9A14-B7E2F321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EA547E-EB3E-4D2C-B7D1-F372E575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439363-A84E-4377-BE91-B7F3AAD8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9CF94D-1D68-42EA-BB12-72B43D74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A23585-364F-4104-BDA1-760F5D98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799EC2-5F40-4CDD-801B-FF391404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9F8CC-9167-4F6B-A017-DF813014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4028E9-2FFA-4F9E-89B2-C8E8B0E5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DAFDDA-488F-4E5F-94AD-BE8CA991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A49553-299B-4748-9ED8-39982297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9844-1494-45FC-8D35-F8FE5354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30DD27-C82D-498A-BCD5-93D0C613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A5D3F2-9F60-4B97-A085-52DF7521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9FC3D8-DB83-4661-A1C7-A3D2FA67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282240-A024-4D2D-9DF7-BE69D275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4B7E29-4735-4FE5-B2E2-4FAA436A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D99B95-03B3-42D1-9892-F0D9781B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39E9EA-5BFD-4862-AC24-D0771966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9F3FED-6B26-45F1-89FB-7083A6D6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5578C0-3D79-481B-AF13-A0651255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85A6D5-E598-48CB-9B00-44D82472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582-CA21-4E05-869F-2C7CED99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5F92-E187-4C9E-88A1-1E0D3CFA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7250AA-BACC-4714-AB95-3B4B388F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34E240-4F9F-4009-AE1C-FFA5F137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C19A51-6BE9-4B21-848F-D4FF7CE2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03F251-25FE-42CE-B7B5-07DA85F2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9BA896-2F8D-4E19-A029-DB116299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1A3AFC-9B36-45ED-87FE-970B277A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874BF2-B054-45B4-9299-4B06B338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73CF6A-6BA0-42C3-AE92-072C2A72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A6689E-1451-4722-A608-E959B845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87DAD7-A97F-4E39-97C0-F720BEB0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0A59-0CAD-49EF-8577-590F8FF2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36CCBE-6E24-4F98-A6E1-A373EA6F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AE65A4-C187-4D9A-803F-E1FE56CA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ACA91B-7391-4BE0-B9C2-A343D42E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2DF14A-E372-4E4D-904B-C3E98C6E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9301B6-A55C-4996-96CE-F38700AC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418310-45FE-45C8-8FD3-6A8F4FD5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583E9F-F4F5-4EBA-A241-98A38B65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637970-E8F9-497E-BFD2-2EE8F0BC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ED1649-3C1E-4A2C-B4DD-5F90D360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A81176-1AB0-4229-A302-8E282F45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D6AF-48D0-433D-A410-DD9F5A21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1F1CB7-68FF-46A6-A362-7B0EB367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E25D77-DFA5-4BAA-AB71-4DDE0F9F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A848CB-7413-48BD-AAC3-9EC85410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D6F05F-B941-435D-A054-3239A7E0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3E4987-ECF4-477A-A096-80701AB7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C9C27D-579C-4389-A2FD-C5197C5E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D0CE81-AC33-496C-9A15-0EA6F2FA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35412D-9391-4017-A7DF-E7E52850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ED407B-DA0F-4BD0-9D71-A9208CFF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110C5C-A345-41D6-B214-45D7F382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3289-7F8C-4DEB-A6E6-B98E9780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A6B0FA-51A5-427B-B8A9-866F4F3B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CF359B-0431-48CE-B9ED-812FD066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E1F66A-73F8-45A9-9E14-5CE6D0E6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1DAEE7-F404-4340-B1E6-7111528E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11F842-3EBE-486E-A332-D03F5FCA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F03F9B-EBD6-48A6-855C-514C934A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43E735-D283-4977-8F46-9E27B01E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FEC133-AE07-4ADC-9D29-5CCD78C8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B88B6E-1DF7-43EA-926C-D499ED85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60A8AC-3530-4401-8A72-AC423889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314B-1023-4DA2-B105-6834A8A3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46C152-94A1-4B75-9818-A8FA5392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F5448F-4CCB-4836-88F5-FAC13D23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0D97AB-EAE2-4A43-B0C8-B0F6D220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C41D6F-A11D-4994-863F-EE97191E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F07C97-645F-4DD0-A531-D7B8D7AE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7E213D-5846-48CF-B1BD-4D2EC870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2401C3-B22F-47BB-9911-E10EFCD0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622F39-BD6F-48ED-8D71-068E1092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DB0A15-43D0-4DDA-B13D-DA6F14EF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B83C96-02DC-4D3B-B052-B7CA67D5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AC0A4-6B63-4E85-8D0E-D1115714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96CCB5-1440-474C-8B86-77D74C4C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6A11B1-D2CB-40E9-8237-F3988F95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1C9A16-3D35-475E-ADA9-65D5EFAF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1C8E46-C061-4D74-85A1-CD39EE12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E26552-96CD-4146-94FE-54CD05E9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56DF7D-06E2-439E-B750-61C71E53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7223EB-BCFB-44CF-9C8E-F3683AD1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E4E4E1-F33C-4C30-9A67-D1241330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0BBB55-1BCA-4C80-A269-4BD7998B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523FFC-23FB-4811-9908-67738025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96A3E-24A4-4298-8641-5ADC4142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ABDA9D-91B6-4FAB-BD94-F65C185A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B6F44E-8712-4502-9172-EDA6F4A3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F8F341-367E-4A11-8B9A-4171E751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4A5BA6-F929-40CE-9A3F-0DF6A95C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E830F0-13AB-46FF-9B9D-557FB6BE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DBBC3E-698E-4B1A-A821-BEFF6E80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0D3CBE-B6E2-4B46-A0F2-5D480086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FD7147-2478-4BDD-9488-12FD42CE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4313D1-336E-450D-8F1A-64BDF142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D156DD-D9A1-4EC5-BFDE-EF4328DD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6986B-F973-436F-B094-0E08AC18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DFE1B9-91F2-4DE8-94BA-FE6D974B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FE1553-E229-478C-BD45-DFE4F9C4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54398D-33B4-40D9-9FC5-D4B07EA7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DCC703-2660-484A-8F72-A7A15D2B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379CD9-E9D7-4EB0-9619-A9FB8BB2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D6BF2A-6083-4B8B-B23F-9162521E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C8A5F6-F7D7-4813-A809-4C45FC6A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E3B79B-A156-42E7-8DBF-3A542D64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1680F0-CF04-4888-8897-2DE2BBDF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AC6D37-1AF0-4856-8FF0-2CF2C09E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C1A5E-59CB-41A8-A8F1-2A915B61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F84D3E-A127-4290-A71E-4F7E3F44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E5F215-8698-4489-A15E-9C061850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1D93AA-648E-4960-B044-0396B07E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E6C9FE-A389-48A8-8639-518AE263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232CC8-B08D-4A63-ABEF-5C7B50ED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FCDD97-087B-458F-BFB7-EBDA048B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D4FC61-FFFE-4BA3-919E-8FAB585F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34BE12-DF43-43E9-BA3F-6929FF60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3F0B44-FBBC-42C5-9012-795B04A3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F5F9B7-2077-49E8-8606-6C1C6BF9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4B95A-DE92-4305-B734-B7EA11B8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A56119-903A-47F1-B590-EEFBA681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DE168D-AD14-400E-A1FD-29AA7F2B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B18C35-716B-48B3-88CE-341528A7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7EDC39-2909-4E70-8CB0-B493BE8B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463831-C95F-4E5A-9137-DBAF06FA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D291CD-7A21-4B0A-9A38-E2C9D04F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3690F2-876E-416A-900A-E504C249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9070E4-BA1A-435D-9C24-F5579AD0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BB7634-B843-47F8-8AD3-C97BCC3F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C41F1B-EC47-4132-8462-14894F54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078-E859-4C1C-B683-0729BFD6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204C6-13C8-430E-9472-9EA2A0A2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2766C7-05B6-400A-ACB5-962C8F04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DCBD1D-8AD3-449F-875E-7E22B33F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D06B05-C234-48ED-B46E-37E10049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C647FF-28FD-4C9E-8826-CC342043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3D5417-5953-44C4-B35A-B951AFDF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E256E4-8E63-405A-B524-44810CF0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759333-D83B-4C27-8711-4B0D44FB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B732E2-BD0E-47E2-AB27-FEDE1991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4F5C6E-B82B-4A7A-97AE-6FC1F3F8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9DEBFF-0413-4D31-9C30-AEFDE2E5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4C920-3E0E-45DE-B3AD-93DA84C0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EF1424-DBBA-433C-A8E9-9FEFBF9E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10E59A-1718-4FAE-BDC6-F42AE39B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7D4853-E01A-4A4A-9AD1-597CEDC1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64F952-874B-4B9C-A5D0-99370FB8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83C41C-4D7B-4798-AF2E-1356373F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33FB30-0B51-4F84-962E-6CD48C3B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225BCC-9FE1-4DD6-B315-ECF9BA3C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CDDBE7-7783-4592-8E48-0C815FA9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3BF648-C328-47D4-9392-B5B6C9C2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A9B298-057C-4531-AE57-6D3BBBD2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068F9-19AE-473E-BB8C-A02CC104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1C8760-F042-4C86-A5A5-AE993C13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4531C9-2ADC-481B-AE49-2AE39D37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11DF4E-40CB-44FB-AEA0-7465F378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41AA6B-86E7-4A31-B0AE-2230012C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3F656C-8AF9-45A7-BE1B-AFDAC3DD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FEA4E6-0EF3-4052-A443-CACB9837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A6B778-8E95-48C8-BFFC-3E032BE2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C01145-8FBF-491A-8963-F1ED7AAF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D01146-3D04-497B-9450-F90D0DF6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3AC566-5C52-4920-8E4F-04D033B8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C754C-2F79-433B-9690-18D9EF9A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384064-B75F-4892-BE08-D372924F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1B5DE7-E1E7-4FF8-9FDF-88E02F9B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6D9011-FC1A-4686-98DA-BBAD17AF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679057-58AD-4B89-92CD-35B2162B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614A75-EC8A-4E20-8B79-7810A0C7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998BC5-8810-4DF8-8346-C43A0804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AE3C5D-33F2-44D0-8992-A01C9A82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71A0A7-829D-4616-BC75-14EA53E6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8BFC4A-035A-4DBA-A3B2-81342362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76174F-60A6-48A9-ABAC-A9D14BFB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03FCA-9E31-4FAD-AC45-C5E06EB4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FE02C9-8412-4390-A75F-BD6978CF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27DA9F-7A65-4833-84D6-15424555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337D33-506B-4B0C-9EA5-5EF34D95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A54878-FAE9-4794-8585-4FA05390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06FC31-B783-412A-A140-6D634878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076C06-81DE-46DC-BFEE-30F2C4CC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5EF932-0C4F-41E7-88C8-826B9BFC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4D5AD4-363E-4167-84E6-9261CBBF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0A0CE3-0AB3-4AAF-BB83-8CB8AE17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877EFE-2C57-409A-8DD5-D2B375BD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D4F77-3407-4125-A664-C18FACAC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174835-BB18-4C60-BFA0-B6701B80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D30C73-9651-402E-A861-AD6FAB65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7CD0C4-08B9-4F6E-BDF7-704F5564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C858BA-01F4-4ED2-A6E2-600AE68B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EA4C18-24E4-4196-8B5E-B1BF7DB8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31BA29-4390-41EC-BDC9-913CE658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0E897D-3393-49C0-81AC-8D71E288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41C843-8A65-4058-ADF0-2E3B8A1A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ED77C3-5F1A-4A98-8809-7301840C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18B5CD-4BAE-4C97-9667-AFA5ECC7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9B85F-A583-4632-ABE4-8F440203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C9899C-BE2A-40FB-997B-11E08BBE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FCC7E-8B20-4E78-A180-77ED0FD6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FE229-C998-4368-973D-FF0664A0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37244-FA7C-4C71-A10E-CF1F19AA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B82-EC0F-4303-8C56-034B39BC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3D365-0E97-4DA1-9BE8-6D600701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0D0CA-BD0A-486D-898E-3BB1290F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A4CFF-4E81-49F5-BFDD-3883F779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C166D-2177-4954-85E9-247BB1BE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C9D94-B182-4627-B136-1AFB3766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7CA7D-3B15-46B6-8C7D-EB8B93FF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48977-8303-43CE-8B65-DAFA4E40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49ADD-9414-42C5-ACE6-838EB3C6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ACA1F-F8AE-4F99-991B-70022ED5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AF8A2-6837-45D7-8A16-112CD2FC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B58-BC86-4657-BD98-7E79E5C1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48471-C350-4A2F-9A80-A99F0338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263FD-FDEB-431D-AFBE-426671B3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6C660-A45A-4746-AE95-C76B49CB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C9749-A47B-48CA-8A13-0ECB27FA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0CF6C-4B16-4EEC-ACE3-FB04D81E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308D2-E67E-4E54-96C1-A3D5B12F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D857D-9D2F-4464-9150-AC6E3C17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14EE6-3C50-4ED3-9C6A-9D07B1C7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F2E66-5292-4053-A454-77A5BD0B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41D5B-2BD0-47EE-A905-926281F0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A888-7347-48AB-B11F-056BE557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40754-7BFE-4C93-868E-24446093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8E652-DABF-4629-B782-074ECAF0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B75F4-DDBF-4041-8DBC-A2881B82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827C7-99EA-4A9F-A99C-2193D9FE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C0C19-B5ED-49FB-A58F-2708B5DB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95CEE-A236-45A1-8F4C-AA688442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1F97F-1001-41B5-8A40-80F85857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BE7F7-CE5C-40E5-8B08-7EE83A97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876AA-A8A0-4DCB-AE9D-48480C67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93888-4C15-486E-8F92-3C0C0C0D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36A-E954-4AC4-BC5B-32CE250A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C2499-3227-49CB-ACD9-F4F9E95F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47A00-401D-4F16-A4FC-B091DCDD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2EEBF-5E0A-4E72-8016-0999E9C2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0EA5C-9D94-4589-B54E-AE976041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900C9-FB60-4540-92B9-36B37A13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8E514-6040-4EA3-9919-DD28BB20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131B2-E9CC-438B-AF7F-DEEDAA66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73AEA-CF13-4557-8E02-AB7061A7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47B7E-C43F-4296-9879-9204AE29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EE706-3131-460A-A131-963FFA28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DA27-7241-4CF0-A1A6-0DCA1EE6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CAFF6-9218-490B-8443-B6BE9B10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9C285-B9D0-4BA3-B2C2-BCFD2ECF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037A1-408A-4656-96BD-846E4D36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C7E51-C4FA-479A-A0EA-FBBC3B22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5BBB2-43B9-42DF-ADAB-23BA0A1B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2D92A-2F52-4CA0-B339-77C8F9DD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30EEF-4E3C-4A47-BACE-0D2ABC89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17D58-1BAE-4C5B-A3E2-948DB917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4E543-6F20-468B-B6D0-D6044E8D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81CA1-80F8-4D29-A485-EACBCA8B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8D2-8D7C-4C89-8C01-ECBCD89C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1BF30-29D3-4157-B5C9-3F8AD999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4E501-2EA0-4E8F-A52D-D879F5DD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1EC67-C625-4AFD-A0BA-A968FE01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934E9-7C26-4C6B-9870-2CA18F78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68B01-74EF-49C2-8515-F6EF5B31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95223-0286-42B8-B4F2-CBEED0E9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6B820-1FA3-40E9-9870-1EAAF35F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5AEBD-FE29-43EC-AF7A-24B21E36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8DF19-D784-4B2A-9498-A3FCE331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06B4C-171F-4EAC-8A4D-59CC9F03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165F-7526-4EFE-B3B0-FCF47393E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3B4D-7DCA-4668-A16E-C14FCD68A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7058-7578-462E-90F4-B45EC50C4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24F6-37E4-4D1E-A2E4-AA041659F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F59F-2840-4441-A370-67C020F4C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AEC8-59B6-4B15-8587-8F7379E19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7772-8C8A-4CF7-AA8F-4DAC9915C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D649-33D4-4BB4-A400-7FBDA856B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15C5-ED82-4020-B076-F6F730E7E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433F-0DF2-4947-9890-CEF68F152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7027-86C6-481B-98A0-3D71E1A02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1ED7-A26E-4545-8102-0814E5FF4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620A-7738-4774-A0DE-D6E2A0E15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D1AA-0D58-4200-816A-1FF30E2C7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7CDF-36FA-44F0-9EF6-77D653417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327E-CECB-4E5C-B253-56B2368D4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7CEB-4E97-429D-9EA8-52FDCA79E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BF19-FA93-4C31-A5D9-24E6D5F82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B948-5289-4816-B3EB-87231ED72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0C28-FB3A-49F4-B9FE-50FF2E795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B94C-179C-4E47-BA9A-A219C5BCB2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C8B1-92E0-4DB1-AC97-109CD4AB62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2966-C658-49CF-8D28-AA3519DF9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C646-AEE5-4B96-BA91-4F1C0D5534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BA63-42FB-40C5-8AC7-4907A62CA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8449-7B21-44FA-8E37-8299BEA13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0650-DFCD-4D8B-9EFC-DFBBCA49C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3BB5-C2A6-49F9-B5B8-131F413E3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5D21-55D4-429F-80E6-0552AD0D1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6ED5-A9A7-47F6-98B1-9C0708C68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Division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f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f you had 12 cookies to share equally with some of your friends?  How could you share the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0" name="TextBox 5"/>
          <p:cNvSpPr/>
          <p:nvPr/>
        </p:nvSpPr>
        <p:spPr>
          <a:xfrm>
            <a:off x="457200" y="3276720"/>
            <a:ext cx="83059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se Real Obje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gela has 24 pieces of paper to hand out for book covers.  Each child needs 2 pieces of paper to make a cover.  How many students will receive paper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renzo has 15 pencils.  He is going to divide them equally among five of his friends.   How many pencils will each friend get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se Real Obje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enty-one books on the shelf.  If each child takes three of them, how many children will get three book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eight bottles of glue.  Each table of children will get two bottles of glue.  How many tables will get glu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can I use to model this problem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sa collects stamps.  She has 28 stamps.  Four stamps fit on each page of her book.  How many pages can she fill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 the problem her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Use a model to solve these situa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57200" y="1599840"/>
            <a:ext cx="8153280" cy="52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y-six boys and girls signed up to play football.  They need eleven players on each team.  How many teams can they mak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een children are in line to ride the ferris wheel.  Three of them can fit in a seat.  How many seats will they us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en can you share a remainde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457200" y="1599840"/>
            <a:ext cx="40384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7 kids playing at recess.  They must share 56 marbles equally.  How many marbles will each kid receiv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4648320" y="1599840"/>
            <a:ext cx="40384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03:51:02Z</dcterms:created>
  <dc:creator>Round Rock ISD</dc:creator>
  <dc:description/>
  <dc:language>en-US</dc:language>
  <cp:lastModifiedBy>127ramirezc</cp:lastModifiedBy>
  <dcterms:modified xsi:type="dcterms:W3CDTF">2009-11-16T14:56:27Z</dcterms:modified>
  <cp:revision>16</cp:revision>
  <dc:subject/>
  <dc:title>Beginning Division</dc:title>
</cp:coreProperties>
</file>